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CDF2-9164-43A1-9B2E-888C9A6E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334B-55E5-4BA7-9DE9-B5DE0E6E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4C42-5A31-4B4A-B01D-8D65A4404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24DA-8A2B-40F8-9ED0-EB1A08B0A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F017-3904-4677-9FD0-94391BFE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C0A5-5BFD-40BC-A761-B7A7ABFE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3684-BFE0-4430-9BE8-5F05B9CA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8AB0-FAA2-4195-92D4-1CC3D774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F672-FDA4-487B-B8C0-C35FA01C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A44E-CB14-4444-823C-22E33225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7AB4-0265-4453-AFC9-57F1FCCF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C00F-C1A7-47D1-BD10-073760E0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4929-849D-4064-AAFF-7DCFFEEE5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685" r="1635" b="11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2338" r="1584" b="37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467840" cy="4133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362240" y="1798560"/>
            <a:ext cx="317160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1295280"/>
            <a:ext cx="754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industria farmaceú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36760" y="762120"/>
            <a:ext cx="5573880" cy="3192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57520" y="3786120"/>
            <a:ext cx="1544400" cy="898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1600" y="4751280"/>
            <a:ext cx="900000" cy="1222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38280" y="5522760"/>
            <a:ext cx="19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spección y Explo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67160" y="4622760"/>
            <a:ext cx="115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eparación y Constr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774800">
            <a:off x="3735360" y="42429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774800">
            <a:off x="2787480" y="507312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24480" y="3529080"/>
            <a:ext cx="70776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46680" y="2949480"/>
            <a:ext cx="70812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54800" y="2370240"/>
            <a:ext cx="708120" cy="5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73400" y="1147680"/>
            <a:ext cx="147960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9774800">
            <a:off x="4975200" y="3592080"/>
            <a:ext cx="514440" cy="255600"/>
          </a:xfrm>
          <a:prstGeom prst="rightArrow">
            <a:avLst>
              <a:gd name="adj1" fmla="val 50000"/>
              <a:gd name="adj2" fmla="val 50317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9774800">
            <a:off x="6389640" y="29523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9774800">
            <a:off x="7548480" y="23061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12952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min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15238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...se trata de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istintos modos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e transformar,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e trabajar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con un recurso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y de obtener un producto de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mayor val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1294920"/>
            <a:ext cx="6019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l recurso mineral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sí mismo no tiene valor,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la actividad minera se lo 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5334120"/>
            <a:ext cx="5486400" cy="457200"/>
          </a:xfrm>
          <a:prstGeom prst="rect">
            <a:avLst/>
          </a:prstGeom>
          <a:solidFill>
            <a:srgbClr val="0c6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3581280"/>
            <a:ext cx="5486400" cy="457200"/>
          </a:xfrm>
          <a:prstGeom prst="rect">
            <a:avLst/>
          </a:prstGeom>
          <a:solidFill>
            <a:srgbClr val="0c6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99072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PERÚ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Tiempos Promed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182880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Exploració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19051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5 a 7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2286000"/>
            <a:ext cx="2895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Pre operativ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2209680"/>
            <a:ext cx="3581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Oro: 9 años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Cobre: 14 años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Polimetálico: 16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35053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Tot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35053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14 a 23 añ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434340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Inversión Promedio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4800600"/>
            <a:ext cx="5867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ent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5257800"/>
            <a:ext cx="594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US$ 35 y 2,000 mill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191120" y="5016600"/>
            <a:ext cx="27939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3,2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111480"/>
            <a:ext cx="23493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504 Tonel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87600" y="1333440"/>
            <a:ext cx="2222280" cy="4318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3174840"/>
            <a:ext cx="20955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87600" y="5079960"/>
            <a:ext cx="2222280" cy="571680"/>
          </a:xfrm>
          <a:prstGeom prst="rect">
            <a:avLst/>
          </a:prstGeom>
          <a:solidFill>
            <a:srgbClr val="dc5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5143680"/>
            <a:ext cx="2349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73600" y="3238560"/>
            <a:ext cx="457200" cy="409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73600" y="5207040"/>
            <a:ext cx="457200" cy="409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794640" y="990720"/>
            <a:ext cx="1968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COB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048200" y="4989600"/>
            <a:ext cx="26892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1,1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48200" y="3022560"/>
            <a:ext cx="24256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20 Tonel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60440" y="1187280"/>
            <a:ext cx="2293920" cy="4456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27040" y="3087720"/>
            <a:ext cx="2160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60440" y="5052960"/>
            <a:ext cx="2293920" cy="590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5118120"/>
            <a:ext cx="24256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720960" y="3152880"/>
            <a:ext cx="471600" cy="423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720960" y="5184720"/>
            <a:ext cx="47160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730920" y="990720"/>
            <a:ext cx="2032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99"/>
                </a:solidFill>
                <a:latin typeface="Verdana"/>
              </a:rPr>
              <a:t>ZIN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094280" y="5021280"/>
            <a:ext cx="30477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K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13,5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35440" y="3076560"/>
            <a:ext cx="2657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666,667 Ki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36760" y="1262160"/>
            <a:ext cx="2268360" cy="4408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01920" y="3141720"/>
            <a:ext cx="2138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36760" y="5086440"/>
            <a:ext cx="2268360" cy="584280"/>
          </a:xfrm>
          <a:prstGeom prst="rect">
            <a:avLst/>
          </a:prstGeom>
          <a:solidFill>
            <a:srgbClr val="e2ac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5151600"/>
            <a:ext cx="23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770280" y="3206880"/>
            <a:ext cx="466920" cy="417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770280" y="5216400"/>
            <a:ext cx="466920" cy="417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748560" y="1066680"/>
            <a:ext cx="2009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e2ac4e"/>
                </a:solidFill>
                <a:latin typeface="Verdana"/>
              </a:rPr>
              <a:t>O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520" y="4495680"/>
            <a:ext cx="6705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No existe divergencia </a:t>
            </a:r>
            <a:br>
              <a:rPr sz="2800"/>
            </a:b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entre las exportaciones mineras y el desarrollo de la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106668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La disponibilidad de recursos naturales puede ser un elemento clave para el crecimiento en tanto se complement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1752480"/>
            <a:ext cx="510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ortaciones de bienes prim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ortaciones de manufact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49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846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495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c6db4"/>
                </a:solidFill>
                <a:latin typeface="Verdana"/>
              </a:rPr>
              <a:t>Percibidas erradamente como excluy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La evolución positiva del sector minero se ha visto reflejada en la demanda de insumos a la industria nacion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74320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Estas industria han ampliado sus actividades y estan incursionando en otros paí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676520" y="1219320"/>
            <a:ext cx="32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quipos para procesamiento en gener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764200" y="64771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12193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quipos electrónico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738440" y="1457280"/>
            <a:ext cx="390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Suministros, partes y piezas y estructura de ac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764200" y="64771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1219320"/>
            <a:ext cx="4038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rincipales consumidores de explosivos, llantas, piezas de jefe y suministros de segur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91440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Los industriales y los mineros podemos complementarnos y dimensionar nuestras posibilidades de generar valo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1009800"/>
            <a:ext cx="3962520" cy="44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Acciones coordinadas y conjunt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Estableciendo mecanismos de información entre ambas activida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Facilitando la ejecución de planes de inversión e innovación tecnológic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160020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sector minero demandaría bienes y servicios de la industria de acuerdo a sus exigencias de calidad, cantidad, oportunidad y precio adecuad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1219320"/>
            <a:ext cx="647712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más que políticas para lograr un crecimiento económ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crecer hacia nuevas formas de hacer, de relacionarse y por tanto de produc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ólo tiene que ver con apertura comercial y acceso a los merc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que ver con la forma en que una economía logra integrarse en sí mi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3880" y="2438280"/>
            <a:ext cx="396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jar de exportar recursos natural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mpezar a exportar bienes elaborados en base a dichos recursos natu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o la única mane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 lograr el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09440" y="-9401040"/>
            <a:ext cx="8926560" cy="25660080"/>
            <a:chOff x="109440" y="-9401040"/>
            <a:chExt cx="8926560" cy="25660080"/>
          </a:xfrm>
        </p:grpSpPr>
        <p:sp>
          <p:nvSpPr>
            <p:cNvPr id="49" name=""/>
            <p:cNvSpPr/>
            <p:nvPr/>
          </p:nvSpPr>
          <p:spPr>
            <a:xfrm>
              <a:off x="109440" y="-9401040"/>
              <a:ext cx="8137440" cy="256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109440" y="-9401040"/>
              <a:ext cx="8926560" cy="24824880"/>
              <a:chOff x="109440" y="-9401040"/>
              <a:chExt cx="8926560" cy="24824880"/>
            </a:xfrm>
          </p:grpSpPr>
          <p:sp>
            <p:nvSpPr>
              <p:cNvPr id="51" name=""/>
              <p:cNvSpPr/>
              <p:nvPr/>
            </p:nvSpPr>
            <p:spPr>
              <a:xfrm>
                <a:off x="109440" y="-9401040"/>
                <a:ext cx="8137440" cy="2482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9440" y="-9401040"/>
                <a:ext cx="8926560" cy="22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41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" name=""/>
          <p:cNvGrpSpPr/>
          <p:nvPr/>
        </p:nvGrpSpPr>
        <p:grpSpPr>
          <a:xfrm>
            <a:off x="-563400" y="-23650560"/>
            <a:ext cx="8137440" cy="25660440"/>
            <a:chOff x="-563400" y="-23650560"/>
            <a:chExt cx="8137440" cy="25660440"/>
          </a:xfrm>
        </p:grpSpPr>
        <p:sp>
          <p:nvSpPr>
            <p:cNvPr id="54" name=""/>
            <p:cNvSpPr/>
            <p:nvPr/>
          </p:nvSpPr>
          <p:spPr>
            <a:xfrm>
              <a:off x="-563400" y="-23650560"/>
              <a:ext cx="8137440" cy="256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-563400" y="-23650560"/>
              <a:ext cx="8137440" cy="24825240"/>
              <a:chOff x="-563400" y="-23650560"/>
              <a:chExt cx="8137440" cy="24825240"/>
            </a:xfrm>
          </p:grpSpPr>
          <p:sp>
            <p:nvSpPr>
              <p:cNvPr id="56" name=""/>
              <p:cNvSpPr/>
              <p:nvPr/>
            </p:nvSpPr>
            <p:spPr>
              <a:xfrm>
                <a:off x="-563400" y="-23650560"/>
                <a:ext cx="8137440" cy="248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-563400" y="-23650560"/>
                <a:ext cx="813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" name=""/>
          <p:cNvGrpSpPr/>
          <p:nvPr/>
        </p:nvGrpSpPr>
        <p:grpSpPr>
          <a:xfrm>
            <a:off x="503280" y="-23550480"/>
            <a:ext cx="8137440" cy="25660440"/>
            <a:chOff x="503280" y="-23550480"/>
            <a:chExt cx="8137440" cy="25660440"/>
          </a:xfrm>
        </p:grpSpPr>
        <p:sp>
          <p:nvSpPr>
            <p:cNvPr id="59" name=""/>
            <p:cNvSpPr/>
            <p:nvPr/>
          </p:nvSpPr>
          <p:spPr>
            <a:xfrm>
              <a:off x="503280" y="-23550480"/>
              <a:ext cx="8137440" cy="256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03280" y="-23550480"/>
              <a:ext cx="8137440" cy="24825240"/>
              <a:chOff x="503280" y="-23550480"/>
              <a:chExt cx="8137440" cy="24825240"/>
            </a:xfrm>
          </p:grpSpPr>
          <p:sp>
            <p:nvSpPr>
              <p:cNvPr id="61" name=""/>
              <p:cNvSpPr/>
              <p:nvPr/>
            </p:nvSpPr>
            <p:spPr>
              <a:xfrm>
                <a:off x="503280" y="-23550480"/>
                <a:ext cx="8137440" cy="248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03280" y="-23550480"/>
                <a:ext cx="813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" name=""/>
          <p:cNvGrpSpPr/>
          <p:nvPr/>
        </p:nvGrpSpPr>
        <p:grpSpPr>
          <a:xfrm>
            <a:off x="503280" y="27757440"/>
            <a:ext cx="5715000" cy="2651040"/>
            <a:chOff x="503280" y="27757440"/>
            <a:chExt cx="5715000" cy="2651040"/>
          </a:xfrm>
        </p:grpSpPr>
        <p:sp>
          <p:nvSpPr>
            <p:cNvPr id="64" name=""/>
            <p:cNvSpPr/>
            <p:nvPr/>
          </p:nvSpPr>
          <p:spPr>
            <a:xfrm>
              <a:off x="503280" y="27757440"/>
              <a:ext cx="5715000" cy="20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3280" y="27757440"/>
              <a:ext cx="3657600" cy="26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47920" y="106668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ropuesta económica de fin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de los sesent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13716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hoy tiene que ver aprovechar tanto los recur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angibles como los intangib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75248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Se ha invertido en capital human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66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70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817640" y="1951200"/>
            <a:ext cx="5508720" cy="3324600"/>
            <a:chOff x="1817640" y="1951200"/>
            <a:chExt cx="5508720" cy="3324600"/>
          </a:xfrm>
        </p:grpSpPr>
        <p:sp>
          <p:nvSpPr>
            <p:cNvPr id="173" name=""/>
            <p:cNvSpPr/>
            <p:nvPr/>
          </p:nvSpPr>
          <p:spPr>
            <a:xfrm>
              <a:off x="1817640" y="1951200"/>
              <a:ext cx="5508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17640" y="1951200"/>
              <a:ext cx="3616200" cy="33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en-US" sz="14000" spc="-1" strike="noStrike">
                  <a:solidFill>
                    <a:srgbClr val="000000"/>
                  </a:solidFill>
                  <a:latin typeface="Georgi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635120" y="2370240"/>
            <a:ext cx="5875200" cy="2117520"/>
            <a:chOff x="1635120" y="2370240"/>
            <a:chExt cx="5875200" cy="2117520"/>
          </a:xfrm>
        </p:grpSpPr>
        <p:sp>
          <p:nvSpPr>
            <p:cNvPr id="176" name=""/>
            <p:cNvSpPr/>
            <p:nvPr/>
          </p:nvSpPr>
          <p:spPr>
            <a:xfrm>
              <a:off x="1635120" y="2370240"/>
              <a:ext cx="587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35120" y="2370240"/>
              <a:ext cx="5875200" cy="21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0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447920" y="2057400"/>
            <a:ext cx="327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Contamos con recurso humano, con conocimiento, capacidades y experienci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81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817640" y="1951200"/>
            <a:ext cx="5508720" cy="3324600"/>
            <a:chOff x="1817640" y="1951200"/>
            <a:chExt cx="5508720" cy="3324600"/>
          </a:xfrm>
        </p:grpSpPr>
        <p:sp>
          <p:nvSpPr>
            <p:cNvPr id="184" name=""/>
            <p:cNvSpPr/>
            <p:nvPr/>
          </p:nvSpPr>
          <p:spPr>
            <a:xfrm>
              <a:off x="1817640" y="1951200"/>
              <a:ext cx="5508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17640" y="1951200"/>
              <a:ext cx="3616200" cy="33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en-US" sz="14000" spc="-1" strike="noStrike">
                  <a:solidFill>
                    <a:srgbClr val="000000"/>
                  </a:solidFill>
                  <a:latin typeface="Georgi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635120" y="2370240"/>
            <a:ext cx="5875200" cy="2117520"/>
            <a:chOff x="1635120" y="2370240"/>
            <a:chExt cx="5875200" cy="2117520"/>
          </a:xfrm>
        </p:grpSpPr>
        <p:sp>
          <p:nvSpPr>
            <p:cNvPr id="187" name=""/>
            <p:cNvSpPr/>
            <p:nvPr/>
          </p:nvSpPr>
          <p:spPr>
            <a:xfrm>
              <a:off x="1635120" y="2370240"/>
              <a:ext cx="587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35120" y="2370240"/>
              <a:ext cx="5875200" cy="21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0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143000" y="1600200"/>
            <a:ext cx="3733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Hubiera sido más provechoso para el país, exportar talentos que exportar personas con talent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2438280"/>
            <a:ext cx="632484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hoy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que ver con lograr hacer de las ventajas que se tienen se conviertan en un elemento de competencia positiva respecto de los otros paí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1752480"/>
            <a:ext cx="63248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ementos para defin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ventaja comparativ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ximidad a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ocimiento téc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pital humano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ponibilidad de infraestructura pú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lidad de instit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914400"/>
            <a:ext cx="56390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ximidad a merca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914400"/>
            <a:ext cx="70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ocimiento técnico y capital huma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914400"/>
            <a:ext cx="70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ponibilidad de infraestructura públ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1371600"/>
            <a:ext cx="693432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stituciones de ca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ecesitamos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an sólidas, técnicas y transpa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mplan a cabalidad su rol normativo, regulador y fiscaliz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e estén presentes en los rincones del país donde sean neces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76520" y="2666880"/>
            <a:ext cx="64767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er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resultados no fueron l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2514600"/>
            <a:ext cx="69343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ecesitamos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haya ruido polí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reponga el principio de autor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gobierno de señales claras que democracia es respetar las le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1905120"/>
            <a:ext cx="56386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base al esfuerzo y empeño de nuestra gente contamos con parte de las variables requeridas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ero necesitamos instituciones que funcionen, se respeten y hagan respe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e el estado cumpla con un rol subsidi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1371600"/>
            <a:ext cx="716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960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."La dicotomía entre una base de recursos naturales y la 'economía del conocimiento' es falsa. Los recursos naturales tienen el mismo gran potencial para generar progreso tecnológico y crecimiento que muchas industrias manufactureras. Al igual que otras industrias, su éxito depende de la aplicación de conocimientos, capital humano, instituciones sólidas y el compromiso de aprovechar las reservas globales de conocimientos prácticos y progreso tecnológico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960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5120" y="1066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Dos elementos claves </a:t>
            </a:r>
            <a:br>
              <a:rPr sz="2800"/>
            </a:b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no considerad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22860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Acceso a la tecnología adecu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xistencia de mercados ex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95280" y="129528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Hoy el Perú es un exportador más sól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50292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frece productos primarios y muchos no tr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12952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Ambos tipos de exportac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son importantes y añaden valo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410080" y="472608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480024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las operaciones mineras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no </a:t>
            </a:r>
            <a:r>
              <a:rPr b="1" lang="en-US" sz="2800" spc="-1" strike="noStrike">
                <a:solidFill>
                  <a:srgbClr val="0c6db4"/>
                </a:solidFill>
                <a:latin typeface="Verdana"/>
              </a:rPr>
              <a:t>sólo se tratan de la extracción </a:t>
            </a:r>
            <a:br>
              <a:rPr sz="2800"/>
            </a:br>
            <a:r>
              <a:rPr b="1" lang="en-US" sz="2800" spc="-1" strike="noStrike">
                <a:solidFill>
                  <a:srgbClr val="0c6db4"/>
                </a:solidFill>
                <a:latin typeface="Verdana"/>
              </a:rPr>
              <a:t>y venta de minerales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71816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619760" cy="3754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19320" y="2239920"/>
            <a:ext cx="26064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1295280"/>
            <a:ext cx="5715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industria tex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8:07Z</dcterms:created>
  <dc:creator>----- -----</dc:creator>
  <dc:description/>
  <dc:language>en-US</dc:language>
  <cp:lastModifiedBy>PCLARCE</cp:lastModifiedBy>
  <cp:lastPrinted>2004-10-27T01:23:05Z</cp:lastPrinted>
  <dcterms:modified xsi:type="dcterms:W3CDTF">2004-10-27T23:44:43Z</dcterms:modified>
  <cp:revision>56</cp:revision>
  <dc:subject/>
  <dc:title>PowerPoint Presentation</dc:title>
</cp:coreProperties>
</file>